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5.wmf" ContentType="image/x-wmf"/>
  <Override PartName="/ppt/media/image24.jpeg" ContentType="image/jpeg"/>
  <Override PartName="/ppt/media/image22.png" ContentType="image/png"/>
  <Override PartName="/ppt/media/image21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40.wmf" ContentType="image/x-wmf"/>
  <Override PartName="/ppt/media/image38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33.wmf" ContentType="image/x-wmf"/>
  <Override PartName="/ppt/media/image29.jpeg" ContentType="image/jpeg"/>
  <Override PartName="/ppt/media/image31.wmf" ContentType="image/x-wmf"/>
  <Override PartName="/ppt/media/image19.jpeg" ContentType="image/jpeg"/>
  <Override PartName="/ppt/media/image32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7.wmf" ContentType="image/x-wmf"/>
  <Override PartName="/ppt/media/image37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23.wmf" ContentType="image/x-wmf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7099300" cy="9436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94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91960" y="707760"/>
            <a:ext cx="4716360" cy="35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0511519-14A0-4027-BF5C-4E8559444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8243E56-DF1F-4303-8D3D-4E3528114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5C14BA0-9AC4-488F-B13D-2567A0A57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5283CFF-1E9B-4BCA-B85A-52D24DDC6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2BDCD49-691E-44C5-98F1-6379CB97E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6021D6A-DA7D-459B-A69D-0C2419F69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811A142-79CF-4E92-B349-BDDFADCCB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59955EA-EFFB-4165-9FC7-F6CE12647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BB42BE7-3A27-4C58-B5DA-E34BA4F0F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CA150A5-B221-451A-8D19-21FCE783B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41792B9-6E9A-438A-A8D1-49742693E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F662EA6-7CD1-4705-B27E-15FD06E63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A4F6472-603F-4CBC-9111-6874E0321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7550138-0952-426A-AE00-1EA1920B2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9772222-D440-43B7-A310-5D96FE4E9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5E33F35-9C94-42C5-9A7B-4603112E5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5594EE1-6EB7-4DCC-809A-1D36AEB12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6457065-B309-4A36-8CA2-5A8114C6C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D6F058C-DF00-4278-AF08-BA4E65469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DCBE723-8F9E-4625-9D1F-271CDE56E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042BB2A-99AB-4787-9FC7-2CBBADD9B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6C471B7-C879-4FE1-A5FB-4D4F1C6DB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E7230B3-FDDD-4F3D-9EF7-E5723B96F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1AC43B9-37E3-4EAC-8A70-B0E5F0AA9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5ED1219-260D-4D77-A3DF-2E759168D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326EC55-F947-4C5D-A158-B152E5EE3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03A3EF6-97BF-43B7-923C-EFBA4D996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9F650C2-C292-4258-8C1E-18D978179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8A4C776-F077-4F02-BD85-92666DBFF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D939BE9-FB08-4A93-A516-EB6AB0EC7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0D597D9-0DCF-48A6-AFC5-E871C951D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2397FAB-340D-42E2-A28A-2082B80BB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BC982E6-1745-4C8A-94B5-CF835C8FD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847F2F1-DCCE-4D1C-8A4C-17F29F682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8EEDA27-C63F-4C81-BFDD-673A5AA06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A5D9DC0-0A47-4313-836B-6F88DF1A8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9E4C179-3B89-4981-86F4-934766397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356BF1F-B490-4DC0-B90F-405B90A69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3311C58-3C1E-450D-B04E-8B8BC3272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41DDD35-4BFD-4C39-BB1A-B6423CB0B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1FE5BFE-530D-4B69-B9F9-A2131B2D2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D87867B-6253-4747-9AED-2DD9580E1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1F63C6E-2ECC-4638-B806-093576A90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031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F46266D-21E1-4DF3-AB4C-9953696E6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69954C5-7F9D-4DEB-9026-3FDD413E3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DC249E9-5FFD-45F2-B7A9-850886390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A5985BC-F652-440F-BC6B-15E075669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31794A6-8410-4903-8F52-290D71479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B0BEE53-0803-4BDC-9335-95FBE9FA3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CFBC926E-467C-4583-9FE1-FA9744453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0B53-E9E0-4EE0-B451-25CB8903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5544-7265-4792-9BA5-5271C762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76C8-2754-42C3-B47C-FEDF2E52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3EA7-FB7A-420D-8EA4-02A64AF9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1AEC-08B8-49B1-A0FC-AAD2A777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E7BC-28B4-4F2C-9211-4F59810D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EF7F-88F5-4BC1-8617-EE43C78F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CF1D-ACE6-4F8E-B35F-C8C8645E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8C44-0043-40CD-B1C3-C4308138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F3FD-C174-407E-AE88-1CA0945F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7687-4BE2-45AA-91B9-9D456B1F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88F-E7E2-4AE4-A4A1-37ED8A4F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BA3A-F17E-42EE-87AD-E46A8D6D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3CE2-328E-4DA1-8691-26E2119A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26B6-CB2F-438A-AB2C-809094CB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DF8B-2EB9-485D-A50C-771F715A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6326-8EE9-4944-A3AF-F504A737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0B6-43FF-41BC-A331-F09DB105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A4A-1ADB-44A1-8DCF-BCE33B8A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B58-C040-46CD-8A95-5D8B93F1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6CE-EB67-42D5-B474-06DAE802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2A1-0117-4C70-B285-22B50940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6F6-E276-4AC3-8915-6F12D886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5E6-EACD-45EC-A24C-4673DDF6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E370-4BE6-4AC5-8061-82D243C1DE9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D2E4-1306-4936-9801-610B63ADD1E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6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4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6.jpe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25.wmf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4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7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8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hyperlink" Target="http://images.google.com/imgres?imgurl=www.actionvideo.tv/images/Wall-Street.jpg&amp;imgrefurl=http://www.kipnotes.com/WallStreet1.htm&amp;h=188&amp;w=285&amp;prev=/images%3Fq%3Dwall%2Bstreet%26svnum%3D10%26hl%3Den%26lr%3D%26ie%3DUTF-8%26oe%3DUTF-8%26sa%3D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ee Financial Frauds                                                                              Case Stud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162560" cy="60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38080" y="2514600"/>
            <a:ext cx="8153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ZZZZ BEST CARPET CL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600200" y="434340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ESM GOVERNMENT SECU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lain Why He Needed So Much Money, Minkow Told Auditors And Lawyers That He Also Restored Buildings Damaged By Fires And Fl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Phony Customers To Show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ver Debt Payments He Created Phony Exp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tors Satisfied With Examining Copies Of Original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766880"/>
            <a:ext cx="8082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oration Side Of Business Was 80% Of Earnings And Was Ph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ny Trick In The Book To Influence The Audi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507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Nice To The Au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507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The Auditors Over For Di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507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nt To The Auditors Home For Dinner.  Wanted Spouses To Think That He Was Such A “Nice Bo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raged Competition Factor - Other CPA Firms Would Like To Have The ZZZZ Best Ac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7" name="Picture 5" descr="j0199122[1]"/>
          <p:cNvPicPr/>
          <p:nvPr/>
        </p:nvPicPr>
        <p:blipFill>
          <a:blip r:embed="rId2"/>
          <a:stretch/>
        </p:blipFill>
        <p:spPr>
          <a:xfrm>
            <a:off x="762120" y="3733920"/>
            <a:ext cx="3733560" cy="3124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4343400" y="3962520"/>
            <a:ext cx="4648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ed To Break Down Auditor In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50796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ipulation - Knew How To Make The Auditor Feel Import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1" name="Picture 4" descr="BD20211_[1]"/>
          <p:cNvPicPr/>
          <p:nvPr/>
        </p:nvPicPr>
        <p:blipFill>
          <a:blip r:embed="rId2"/>
          <a:stretch/>
        </p:blipFill>
        <p:spPr>
          <a:xfrm>
            <a:off x="685800" y="2819520"/>
            <a:ext cx="3352680" cy="4038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3962520" y="3133800"/>
            <a:ext cx="5562360" cy="37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3080" indent="-5666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Me Your Business Advi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3080" indent="-56664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3080" indent="-5666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You Think Of This Contra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3080" indent="-56664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3080" indent="-5666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s Wrong With This Store/Location? Can You Help 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77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766520"/>
            <a:ext cx="579132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623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 was to understand what was going on at the b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bank"/>
          <p:cNvPicPr/>
          <p:nvPr/>
        </p:nvPicPr>
        <p:blipFill>
          <a:blip r:embed="rId2"/>
          <a:stretch/>
        </p:blipFill>
        <p:spPr>
          <a:xfrm>
            <a:off x="6553080" y="1676520"/>
            <a:ext cx="2257560" cy="51814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62120" y="3429000"/>
            <a:ext cx="5790960" cy="39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596960" indent="-682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ned 6 banks at the time the auditors wanted to do business with ZZZZ B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596960" indent="-682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596960" indent="-6825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s failed to provide the necessary information to the audi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60195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s Able To Redirect The Auditors Foc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j0221911[1]"/>
          <p:cNvPicPr/>
          <p:nvPr/>
        </p:nvPicPr>
        <p:blipFill>
          <a:blip r:embed="rId2"/>
          <a:stretch/>
        </p:blipFill>
        <p:spPr>
          <a:xfrm>
            <a:off x="6135840" y="1676520"/>
            <a:ext cx="3008160" cy="5029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2286000" y="3114720"/>
            <a:ext cx="5334120" cy="37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7760" indent="-52056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Are Grinding Me And Hurting My Busi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520560">
              <a:lnSpc>
                <a:spcPct val="3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52056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, You Cannot Contact That Custo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520560">
              <a:lnSpc>
                <a:spcPct val="3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52056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y Do You Need Thi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520560">
              <a:lnSpc>
                <a:spcPct val="4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52056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uditor’s May Have Had A Fear Of Litig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77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5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7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0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4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8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80820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704160" indent="-70416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 One Was Looking Real H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04160" indent="-70416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 One Suspected Any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j0294949[1]"/>
          <p:cNvPicPr/>
          <p:nvPr/>
        </p:nvPicPr>
        <p:blipFill>
          <a:blip r:embed="rId3"/>
          <a:stretch/>
        </p:blipFill>
        <p:spPr>
          <a:xfrm>
            <a:off x="762120" y="3657600"/>
            <a:ext cx="2895480" cy="3200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3657600" y="3657600"/>
            <a:ext cx="5486400" cy="38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6858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yers Were Making A Lot Of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6858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6858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untants Were Making A Lot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68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6858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writers Were Making A Lot Of Mon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8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77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2000" y="1766880"/>
            <a:ext cx="8082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77760" indent="-9777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ck Price Went From 5 Cents To $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777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77760" indent="-9777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ed Upon Wall Street Analysis.  They Know Due Diligence. They Know Numbers.  If There Was Something Wrong, The Analysis Would Have Found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777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77760" indent="-9777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he Media, Lawyers, Wall Street, Financial Analyst, And Stock Brokers To Influence The Accounting Fi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60195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0280" indent="-8002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raud Perpetrators Had To Be Consistent And Tell The Same Story To The Audi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j0088890[1]"/>
          <p:cNvPicPr/>
          <p:nvPr/>
        </p:nvPicPr>
        <p:blipFill>
          <a:blip r:embed="rId2"/>
          <a:stretch/>
        </p:blipFill>
        <p:spPr>
          <a:xfrm>
            <a:off x="6705720" y="1828800"/>
            <a:ext cx="2438280" cy="2259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685800" y="4659480"/>
            <a:ext cx="8229600" cy="25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7365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nly Upper Management Was Involved In The Fra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736560">
              <a:lnSpc>
                <a:spcPct val="2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7365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wer Level Employees Knew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736560" algn="ctr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1295280" y="4419720"/>
            <a:ext cx="762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77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6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691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raud May Have Been Detected Earlier  No One Asked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j0089814[1]"/>
          <p:cNvPicPr/>
          <p:nvPr/>
        </p:nvPicPr>
        <p:blipFill>
          <a:blip r:embed="rId2"/>
          <a:stretch/>
        </p:blipFill>
        <p:spPr>
          <a:xfrm>
            <a:off x="1066680" y="3733920"/>
            <a:ext cx="3276720" cy="24987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3962520" y="3089160"/>
            <a:ext cx="51814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320840" indent="-8636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Lic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0840" indent="-86364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0840" indent="-8636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roll Reports For Hundred Of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0840" indent="-86364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0840" indent="-8636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HA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0840" indent="-86364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0840" indent="-8636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And State Per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0840" indent="-863640">
              <a:lnSpc>
                <a:spcPct val="3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0840" indent="-8636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p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9960"/>
            <a:ext cx="8305920" cy="13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se Three Companies Used Schemes That Had One Thing in Common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44956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vised To Make The Business Look Better Than It W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HH02514_[1]"/>
          <p:cNvPicPr/>
          <p:nvPr/>
        </p:nvPicPr>
        <p:blipFill>
          <a:blip r:embed="rId2"/>
          <a:stretch/>
        </p:blipFill>
        <p:spPr>
          <a:xfrm>
            <a:off x="5257800" y="1600200"/>
            <a:ext cx="3728880" cy="5018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287440"/>
            <a:ext cx="42670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acts That W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th Million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llars Were On 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et Of Paper Wi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Specif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5" descr="msl"/>
          <p:cNvPicPr/>
          <p:nvPr/>
        </p:nvPicPr>
        <p:blipFill>
          <a:blip r:embed="rId1"/>
          <a:stretch/>
        </p:blipFill>
        <p:spPr>
          <a:xfrm>
            <a:off x="5483160" y="1676520"/>
            <a:ext cx="3660840" cy="5181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766520"/>
            <a:ext cx="7764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0280" indent="-8002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aud Was Not Detected By The Audito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-8002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nkow Overcharged Customer Credit Cards To Raise Mone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-8002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usewife Was Upset With Being Overcharged For Carpet Cleaning Services And Called A Local Newspaper Repor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-800280">
              <a:lnSpc>
                <a:spcPct val="80000"/>
              </a:lnSpc>
              <a:spcBef>
                <a:spcPts val="700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orter Discovered That There Were Hundreds Of People Who Had B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charg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77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77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6" dur="77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8" dur="77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PE01451_[1]"/>
          <p:cNvPicPr/>
          <p:nvPr/>
        </p:nvPicPr>
        <p:blipFill>
          <a:blip r:embed="rId1"/>
          <a:stretch/>
        </p:blipFill>
        <p:spPr>
          <a:xfrm>
            <a:off x="4114800" y="1828800"/>
            <a:ext cx="5219640" cy="43592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45720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ok Beyond The Numbers To See If The Document(s) Makes Se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2" descr="BD05092_[1]"/>
          <p:cNvPicPr/>
          <p:nvPr/>
        </p:nvPicPr>
        <p:blipFill>
          <a:blip r:embed="rId3"/>
          <a:stretch/>
        </p:blipFill>
        <p:spPr>
          <a:xfrm>
            <a:off x="2286000" y="4952880"/>
            <a:ext cx="1825560" cy="165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4480" y="167616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storical Tre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2 Months Sales Grew By 29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5 Months Total Assets Increased By Over 4,0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Assets As Compared To Total Assets Decr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storical Tre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85 There Were No Accounts Receiv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een Months Later, Accounts Receivables Was Approximately $2.5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ts And Sales Were Incr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Expenses De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9160" indent="-74916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uditors Should Look Closely At Companies That Ar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9160" indent="0">
              <a:lnSpc>
                <a:spcPct val="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581280" y="3170160"/>
            <a:ext cx="6400800" cy="33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y Lever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Lots Of L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wns Few As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Unbelievable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5" descr="PE01458_[1]"/>
          <p:cNvPicPr/>
          <p:nvPr/>
        </p:nvPicPr>
        <p:blipFill>
          <a:blip r:embed="rId6"/>
          <a:stretch/>
        </p:blipFill>
        <p:spPr>
          <a:xfrm>
            <a:off x="685800" y="4452840"/>
            <a:ext cx="5943600" cy="240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77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4" dur="77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6" dur="77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343040" y="175248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ustry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7480" indent="-6224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ZZZ Best Showed A $7 Million Restoration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7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7480" indent="-6224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rgest Job In The Industry Was Only $2.4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5" name="Picture 5" descr="construction"/>
          <p:cNvPicPr/>
          <p:nvPr/>
        </p:nvPicPr>
        <p:blipFill>
          <a:blip r:embed="rId4"/>
          <a:stretch/>
        </p:blipFill>
        <p:spPr>
          <a:xfrm>
            <a:off x="914400" y="1600200"/>
            <a:ext cx="330984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5040" indent="-635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als Were Don Sheland And Vince Goldland, C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Big Plans To Increase Sales And Diversify The Product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es Fell Short Of Pred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Tell Shareholders Of Shortfall  Sheland Turned To His CFO For Some Creative Accounting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HH01539_[1]"/>
          <p:cNvPicPr/>
          <p:nvPr/>
        </p:nvPicPr>
        <p:blipFill>
          <a:blip r:embed="rId5"/>
          <a:stretch/>
        </p:blipFill>
        <p:spPr>
          <a:xfrm>
            <a:off x="8116920" y="533520"/>
            <a:ext cx="1027080" cy="128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434520"/>
            <a:ext cx="8077320" cy="1165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80" name="Picture 4" descr="HH01539_[1]"/>
          <p:cNvPicPr/>
          <p:nvPr/>
        </p:nvPicPr>
        <p:blipFill>
          <a:blip r:embed="rId1"/>
          <a:stretch/>
        </p:blipFill>
        <p:spPr>
          <a:xfrm>
            <a:off x="8175600" y="533520"/>
            <a:ext cx="968400" cy="12142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374840" y="5257800"/>
            <a:ext cx="7769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2057400" indent="-571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layed Posting Of Sales Ret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143000" y="2438280"/>
            <a:ext cx="776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1" marL="874440" indent="-4856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ture Revenue Recognition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1143000" y="58672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028880" indent="-5716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ed To Post Certain Expenses At Year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374840" y="3886200"/>
            <a:ext cx="7769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2057400" indent="-571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ditional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1374840" y="4572000"/>
            <a:ext cx="7769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2" marL="1604520" indent="-445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ll And Hold Sc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1295280" y="2895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2" marL="1522440" indent="-42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lding The Books Open Past The Close Of The Accounting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533520" y="1828800"/>
            <a:ext cx="7769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811800" indent="-596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ancial Statement Frau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766520"/>
            <a:ext cx="814536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d Metal Parts With Plastic Parts Because The Plastic Parts Were Che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lastic Melted, The Vacuums Broke, And The Customers Returned The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8" descr="parts"/>
          <p:cNvPicPr/>
          <p:nvPr/>
        </p:nvPicPr>
        <p:blipFill>
          <a:blip r:embed="rId3"/>
          <a:stretch/>
        </p:blipFill>
        <p:spPr>
          <a:xfrm>
            <a:off x="685800" y="4876920"/>
            <a:ext cx="8458200" cy="1981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HH01539_[1]"/>
          <p:cNvPicPr/>
          <p:nvPr/>
        </p:nvPicPr>
        <p:blipFill>
          <a:blip r:embed="rId4"/>
          <a:stretch/>
        </p:blipFill>
        <p:spPr>
          <a:xfrm>
            <a:off x="8175600" y="533520"/>
            <a:ext cx="968400" cy="121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ight Basis Schemes Used to Cook the Book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stating Reven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d69b8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ture Revenue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d69b8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per Treatment Of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d69b8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nue Substance Over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d69b8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entage Of Completion 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j0199279[1]"/>
          <p:cNvPicPr/>
          <p:nvPr/>
        </p:nvPicPr>
        <p:blipFill>
          <a:blip r:embed="rId2"/>
          <a:stretch/>
        </p:blipFill>
        <p:spPr>
          <a:xfrm>
            <a:off x="6781680" y="1600200"/>
            <a:ext cx="228600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440" y="1766880"/>
            <a:ext cx="84582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0280" indent="-8002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petrated Fraud B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685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-6346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685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ccounting For Returned Goods From Custo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-6346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685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False Invoices (Created False Account Receiva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685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-6346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685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ed To Report All Of The Exp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94" name="Picture 5" descr="HH01539_[1]"/>
          <p:cNvPicPr/>
          <p:nvPr/>
        </p:nvPicPr>
        <p:blipFill>
          <a:blip r:embed="rId5"/>
          <a:stretch/>
        </p:blipFill>
        <p:spPr>
          <a:xfrm>
            <a:off x="8175600" y="533520"/>
            <a:ext cx="968400" cy="121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81280" y="3123720"/>
            <a:ext cx="556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3000" indent="-5713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206360"/>
                <a:tab algn="l" pos="2413080"/>
                <a:tab algn="l" pos="3619440"/>
                <a:tab algn="l" pos="4826160"/>
                <a:tab algn="l" pos="6032520"/>
                <a:tab algn="l" pos="7238880"/>
                <a:tab algn="l" pos="8445600"/>
                <a:tab algn="l" pos="965196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1 Product To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lnSpc>
                <a:spcPct val="80000"/>
              </a:lnSpc>
              <a:buNone/>
              <a:tabLst>
                <a:tab algn="l" pos="0"/>
                <a:tab algn="l" pos="1206360"/>
                <a:tab algn="l" pos="2413080"/>
                <a:tab algn="l" pos="3619440"/>
                <a:tab algn="l" pos="4826160"/>
                <a:tab algn="l" pos="6032520"/>
                <a:tab algn="l" pos="7238880"/>
                <a:tab algn="l" pos="8445600"/>
                <a:tab algn="l" pos="965196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571320">
              <a:lnSpc>
                <a:spcPct val="80000"/>
              </a:lnSpc>
              <a:buSzPct val="102805"/>
              <a:buBlip>
                <a:blip r:embed="rId2"/>
              </a:buBlip>
              <a:tabLst>
                <a:tab algn="l" pos="1206360"/>
                <a:tab algn="l" pos="2413080"/>
                <a:tab algn="l" pos="3619440"/>
                <a:tab algn="l" pos="4826160"/>
                <a:tab algn="l" pos="6032520"/>
                <a:tab algn="l" pos="7238880"/>
                <a:tab algn="l" pos="8445600"/>
                <a:tab algn="l" pos="965196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ified The Product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lnSpc>
                <a:spcPct val="80000"/>
              </a:lnSpc>
              <a:buNone/>
              <a:tabLst>
                <a:tab algn="l" pos="0"/>
                <a:tab algn="l" pos="1206360"/>
                <a:tab algn="l" pos="2413080"/>
                <a:tab algn="l" pos="3619440"/>
                <a:tab algn="l" pos="4826160"/>
                <a:tab algn="l" pos="6032520"/>
                <a:tab algn="l" pos="7238880"/>
                <a:tab algn="l" pos="8445600"/>
                <a:tab algn="l" pos="965196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571320">
              <a:lnSpc>
                <a:spcPct val="80000"/>
              </a:lnSpc>
              <a:buSzPct val="102805"/>
              <a:buBlip>
                <a:blip r:embed="rId3"/>
              </a:buBlip>
              <a:tabLst>
                <a:tab algn="l" pos="1206360"/>
                <a:tab algn="l" pos="2413080"/>
                <a:tab algn="l" pos="3619440"/>
                <a:tab algn="l" pos="4826160"/>
                <a:tab algn="l" pos="6032520"/>
                <a:tab algn="l" pos="7238880"/>
                <a:tab algn="l" pos="8445600"/>
                <a:tab algn="l" pos="965196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d Almost Everything That Had Been Previously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vacuum"/>
          <p:cNvPicPr/>
          <p:nvPr/>
        </p:nvPicPr>
        <p:blipFill>
          <a:blip r:embed="rId4"/>
          <a:stretch/>
        </p:blipFill>
        <p:spPr>
          <a:xfrm>
            <a:off x="685800" y="3429000"/>
            <a:ext cx="3657600" cy="30970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1371600" y="1676520"/>
            <a:ext cx="7467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heland Tookover Regina The Company Became A 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14240" y="1905120"/>
            <a:ext cx="6629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5040" indent="-635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vation Of C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-6858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ed All Of His Life Savings To Acquire A Controlling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-685800">
              <a:lnSpc>
                <a:spcPct val="7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Jealous Of His Successful S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-685800">
              <a:lnSpc>
                <a:spcPct val="6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ed To Be Success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-685800">
              <a:lnSpc>
                <a:spcPct val="7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Life Was Tied To The Company And The Stock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4" descr="HH01539_[1]"/>
          <p:cNvPicPr/>
          <p:nvPr/>
        </p:nvPicPr>
        <p:blipFill>
          <a:blip r:embed="rId6"/>
          <a:stretch/>
        </p:blipFill>
        <p:spPr>
          <a:xfrm>
            <a:off x="8175600" y="533520"/>
            <a:ext cx="968400" cy="1214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j0310160[1]"/>
          <p:cNvPicPr/>
          <p:nvPr/>
        </p:nvPicPr>
        <p:blipFill>
          <a:blip r:embed="rId7"/>
          <a:stretch/>
        </p:blipFill>
        <p:spPr>
          <a:xfrm>
            <a:off x="1066680" y="2971800"/>
            <a:ext cx="2425680" cy="291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766880"/>
            <a:ext cx="503424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78600" indent="-67860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tors Did Not Detect What Was Going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86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8600" indent="-67860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as Collusion With Several Key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86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8600" indent="-67860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land And Goldland Turned Themselves Into The Authori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86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8600" indent="-67860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ssed Because They Had A Guilty Cons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j0185047[1]"/>
          <p:cNvPicPr/>
          <p:nvPr/>
        </p:nvPicPr>
        <p:blipFill>
          <a:blip r:embed="rId5"/>
          <a:stretch/>
        </p:blipFill>
        <p:spPr>
          <a:xfrm>
            <a:off x="5943600" y="1676520"/>
            <a:ext cx="3200400" cy="5181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3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8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3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 Financial Trends Over A 3 Year Perio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7400" indent="-615960">
              <a:lnSpc>
                <a:spcPct val="7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unt Receivables Increased From 33% To 43% Of Total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74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7400" indent="-615960">
              <a:lnSpc>
                <a:spcPct val="7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Assets As A Percentage Of Total Assets Decr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74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7400" indent="-615960">
              <a:lnSpc>
                <a:spcPct val="7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ntories Increased From 22% To 3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74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7400" indent="-615960">
              <a:lnSpc>
                <a:spcPct val="7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Percentage Of Net Sales, Cost Of Goods Sold Decreased From 61% To 5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4" descr="HH01539_[1]"/>
          <p:cNvPicPr/>
          <p:nvPr/>
        </p:nvPicPr>
        <p:blipFill>
          <a:blip r:embed="rId6"/>
          <a:stretch/>
        </p:blipFill>
        <p:spPr>
          <a:xfrm>
            <a:off x="8175600" y="533520"/>
            <a:ext cx="968400" cy="121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8082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 Financial Trends Over A 3 Year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507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57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Sales And Inventory Went From 76 Days To 11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507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57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able Turnover Decreased From 5.3 To 3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507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57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ntory Turnover Decreased From 4.8 To 3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507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57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 Sales Increased 110% Without A Corresponding Increase In The Cost Of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HH01539_[1]"/>
          <p:cNvPicPr/>
          <p:nvPr/>
        </p:nvPicPr>
        <p:blipFill>
          <a:blip r:embed="rId6"/>
          <a:stretch/>
        </p:blipFill>
        <p:spPr>
          <a:xfrm>
            <a:off x="8175600" y="533520"/>
            <a:ext cx="968400" cy="121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66294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71320" indent="-5713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ll And Hold Schemes Used To Falsify Sales Were Concentrated In A Few Custo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4" descr="j0160458[1]"/>
          <p:cNvPicPr/>
          <p:nvPr/>
        </p:nvPicPr>
        <p:blipFill>
          <a:blip r:embed="rId2"/>
          <a:stretch/>
        </p:blipFill>
        <p:spPr>
          <a:xfrm>
            <a:off x="7391520" y="1905120"/>
            <a:ext cx="1600200" cy="1589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BD20191_[1]"/>
          <p:cNvPicPr/>
          <p:nvPr/>
        </p:nvPicPr>
        <p:blipFill>
          <a:blip r:embed="rId3"/>
          <a:stretch/>
        </p:blipFill>
        <p:spPr>
          <a:xfrm>
            <a:off x="762120" y="4495680"/>
            <a:ext cx="1904760" cy="17128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2666880" y="4495680"/>
            <a:ext cx="6172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617040" indent="-6170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erous Large Journal Entries Were Made At Year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914400" y="53341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Receivables Created A Few Days Before The Year End Should Trigger Further Invest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429000" y="2209680"/>
            <a:ext cx="57150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5800" indent="-68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xcessive Account Receivables Are Concentrated In A Few Accounts - The Accountant Should Be Suspi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5" descr="j0160382[1]"/>
          <p:cNvPicPr/>
          <p:nvPr/>
        </p:nvPicPr>
        <p:blipFill>
          <a:blip r:embed="rId3"/>
          <a:stretch/>
        </p:blipFill>
        <p:spPr>
          <a:xfrm>
            <a:off x="1219320" y="1752480"/>
            <a:ext cx="2070000" cy="3276720"/>
          </a:xfrm>
          <a:prstGeom prst="rect">
            <a:avLst/>
          </a:prstGeom>
          <a:ln w="0">
            <a:noFill/>
          </a:ln>
        </p:spPr>
      </p:pic>
      <p:sp>
        <p:nvSpPr>
          <p:cNvPr id="221" name="Line 7"/>
          <p:cNvSpPr/>
          <p:nvPr/>
        </p:nvSpPr>
        <p:spPr>
          <a:xfrm>
            <a:off x="1828800" y="5334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3657600" y="4952880"/>
            <a:ext cx="5181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ESM Group Incorporat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8082000" cy="56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28880" indent="-80028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iness Of Buying And Selling Government Secu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80028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ntered Financial Difficu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80028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an In 1975 - Capital Was Min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80028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On The Company Had A Deficit In Stockholders Equity Of $68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80028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78, A $3 Million Dollar Trade Was Made That Resulted In A Major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0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4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7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0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3" dur="1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ESM Group Incorporat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tion Revealed That ESM Principals Had Used Customer Securities Held In Safekeeping To Cover Massive Losses Caused By Poor Trading And High L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Out As A Bad Business Deal And Ended With Losses Of $34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HH01619_[1]"/>
          <p:cNvPicPr/>
          <p:nvPr/>
        </p:nvPicPr>
        <p:blipFill>
          <a:blip r:embed="rId3"/>
          <a:stretch/>
        </p:blipFill>
        <p:spPr>
          <a:xfrm>
            <a:off x="6072120" y="1752480"/>
            <a:ext cx="3071880" cy="510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ining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d69b80"/>
              </a:buClr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rral Of Cost And Exp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d69b80"/>
              </a:buClr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per Asset Val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d69b80"/>
              </a:buClr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d Party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d69b80"/>
              </a:buClr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dequate Disclos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ight Basis Schemes Used to Cook the Book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7" name="Picture 4" descr="j0199279[1]"/>
          <p:cNvPicPr/>
          <p:nvPr/>
        </p:nvPicPr>
        <p:blipFill>
          <a:blip r:embed="rId2"/>
          <a:stretch/>
        </p:blipFill>
        <p:spPr>
          <a:xfrm>
            <a:off x="6705720" y="1828800"/>
            <a:ext cx="2514600" cy="2185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ESM Group Incorporat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1760" y="1766880"/>
            <a:ext cx="5033880" cy="18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her Than Admit The Problem, ESM Principals Decided T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63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5" descr="PE01476_[1]"/>
          <p:cNvPicPr/>
          <p:nvPr/>
        </p:nvPicPr>
        <p:blipFill>
          <a:blip r:embed="rId2"/>
          <a:stretch/>
        </p:blipFill>
        <p:spPr>
          <a:xfrm>
            <a:off x="6051600" y="1828800"/>
            <a:ext cx="3092400" cy="34686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6"/>
          <p:cNvSpPr/>
          <p:nvPr/>
        </p:nvSpPr>
        <p:spPr>
          <a:xfrm>
            <a:off x="1295280" y="4343400"/>
            <a:ext cx="8982360" cy="22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504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e The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 Out Of The Probl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st An Additional $70-$80 Mill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5112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074240" y="1828800"/>
            <a:ext cx="80694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63640" indent="-8636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an Novack, ESM Partner, Losses Covered Up By Transferring Losses To A Shell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8636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7 Years Of Cooking The Books, Novack Died Suddenly Of A Heart Attack ESM’s Chairman Decided To Call It Q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8636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Players Contacted Their Attorn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ESM Group Incorporat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6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ESM Group Incorporat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766880"/>
            <a:ext cx="80820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cial Statements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14680" indent="-457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171880" indent="-27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ies Purchased Under Agreement To Resell $2.9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14680" indent="-457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biliti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171880" indent="-27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ies Sold Under Agreements To Repurchase $3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14680" indent="-457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ing Of The Liability Side And Lending On The Asset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4" descr="BS00512_[1]"/>
          <p:cNvPicPr/>
          <p:nvPr/>
        </p:nvPicPr>
        <p:blipFill>
          <a:blip r:embed="rId5"/>
          <a:stretch/>
        </p:blipFill>
        <p:spPr>
          <a:xfrm>
            <a:off x="5867280" y="1676520"/>
            <a:ext cx="2374920" cy="1123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1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10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ESM Group Incorporat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7627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M Convinced Many Lenders To Let ESM Hold Their Col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9" descr="j0245173"/>
          <p:cNvPicPr/>
          <p:nvPr/>
        </p:nvPicPr>
        <p:blipFill>
          <a:blip r:embed="rId2"/>
          <a:stretch/>
        </p:blipFill>
        <p:spPr>
          <a:xfrm>
            <a:off x="5715000" y="3505320"/>
            <a:ext cx="3429000" cy="31096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0"/>
          <p:cNvSpPr/>
          <p:nvPr/>
        </p:nvSpPr>
        <p:spPr>
          <a:xfrm>
            <a:off x="762120" y="2895480"/>
            <a:ext cx="4952880" cy="39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ey/Securities Would Come In  Fraudulent Letter Would Be Sent Stating That The Securities Have Been Segreg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ies Sold Over And 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77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3" dur="77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5" dur="77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7" dur="77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ESM Group Incorporat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76652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76160" indent="-7761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es Covered Up By Simple Accounting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76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76160" indent="-7761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M Group Incorporated Was Aud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76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76160" indent="-7761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iliate ESM Financial Corporation Wa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76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76160" indent="-7761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an Novack Simply Transferred The Losses Of ESM Group Incorporated To Its Affil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9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ESM Group Incorporat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9160" indent="-749160">
              <a:lnSpc>
                <a:spcPct val="8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e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7" descr="PE03267_[1]"/>
          <p:cNvPicPr/>
          <p:nvPr/>
        </p:nvPicPr>
        <p:blipFill>
          <a:blip r:embed="rId2"/>
          <a:stretch/>
        </p:blipFill>
        <p:spPr>
          <a:xfrm>
            <a:off x="6019920" y="1811160"/>
            <a:ext cx="3124080" cy="27561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8"/>
          <p:cNvSpPr/>
          <p:nvPr/>
        </p:nvSpPr>
        <p:spPr>
          <a:xfrm>
            <a:off x="152280" y="4510080"/>
            <a:ext cx="8991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6224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k The Same Named Securities And Treated  Them As If He Was Selling Securities To An Affiliated Company With An Agreement To Repurchase/Resell To Cover The Short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533520" y="3124080"/>
            <a:ext cx="60195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5713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ed More Than Loa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581280" y="3733920"/>
            <a:ext cx="5562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 Financial Statements Showed Pro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e Accounting Firm Had Prepared The Tax Return And Conducted The Au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ESM Group Incorporat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50" name="Picture 5" descr="PE01456_[1]"/>
          <p:cNvPicPr/>
          <p:nvPr/>
        </p:nvPicPr>
        <p:blipFill>
          <a:blip r:embed="rId3"/>
          <a:stretch/>
        </p:blipFill>
        <p:spPr>
          <a:xfrm>
            <a:off x="762120" y="4165560"/>
            <a:ext cx="2908080" cy="26924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838080" y="1828800"/>
            <a:ext cx="822960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gators Asked For The Books And Records Of E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ts Affil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e Tax Returns For The Companies Showed M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es (E.G., $90 Million In One Year In Trading Lo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-152280"/>
            <a:ext cx="77724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ESM Group Incorporated - Audit Partner in Charge - Jose Gomez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9160" indent="-7491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d Above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5" descr="BS00882_[1]"/>
          <p:cNvPicPr/>
          <p:nvPr/>
        </p:nvPicPr>
        <p:blipFill>
          <a:blip r:embed="rId2"/>
          <a:stretch/>
        </p:blipFill>
        <p:spPr>
          <a:xfrm>
            <a:off x="1295280" y="4611600"/>
            <a:ext cx="2514600" cy="2246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BD09172_[1]"/>
          <p:cNvPicPr/>
          <p:nvPr/>
        </p:nvPicPr>
        <p:blipFill>
          <a:blip r:embed="rId3"/>
          <a:stretch/>
        </p:blipFill>
        <p:spPr>
          <a:xfrm>
            <a:off x="5486400" y="1676520"/>
            <a:ext cx="3657600" cy="24811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2"/>
          <p:cNvSpPr/>
          <p:nvPr/>
        </p:nvSpPr>
        <p:spPr>
          <a:xfrm>
            <a:off x="4114800" y="4648320"/>
            <a:ext cx="51814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Up Credit Card Charges Of $1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4114800" y="5826240"/>
            <a:ext cx="502920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an Novack Offered To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9160" indent="-7491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tors Missed The Cover Up In The First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916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9160" indent="-7491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Cover Up Became Known To Gomez In The Second Year, Novack Confronted Gomez Saying “Do You Want To Tell Your Partners That You Blew This Audit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91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9160" indent="-7491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mez Covered Up The Fraud And Was Sentenced To 12 Years In Federal P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990720" y="1299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ESM Group Incorporated – Audit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Partner in Charge - Jose Gomez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0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j0092503[1]"/>
          <p:cNvPicPr/>
          <p:nvPr/>
        </p:nvPicPr>
        <p:blipFill>
          <a:blip r:embed="rId1"/>
          <a:stretch/>
        </p:blipFill>
        <p:spPr>
          <a:xfrm>
            <a:off x="1143000" y="1981080"/>
            <a:ext cx="7761240" cy="3813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nodeType="clickEffect" fill="hold">
                      <p:stCondLst>
                        <p:cond delay="0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766880"/>
            <a:ext cx="838188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By Barry Minkow In 1982 At The Age Of 16 In His Ga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Years Later, ZZZZ Best Was Worth Over $240 Million Do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 algn="ctr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 Stock On Wall Str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1" descr="Wall-Stree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120" y="4952880"/>
            <a:ext cx="8381880" cy="182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83055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ny Never Made A Legitimate Prof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Time This Was One Of The Largest Financial Frauds Of The 20th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3" name="Picture 9" descr="BD19755_[1]"/>
          <p:cNvPicPr/>
          <p:nvPr/>
        </p:nvPicPr>
        <p:blipFill>
          <a:blip r:embed="rId3"/>
          <a:stretch/>
        </p:blipFill>
        <p:spPr>
          <a:xfrm>
            <a:off x="5637240" y="4406760"/>
            <a:ext cx="3506760" cy="2451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6"/>
          <p:cNvSpPr/>
          <p:nvPr/>
        </p:nvSpPr>
        <p:spPr>
          <a:xfrm>
            <a:off x="685800" y="4343400"/>
            <a:ext cx="464832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5713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kow Sentenced To 25 Years In Prison For Defrauding Investors Over $100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571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 - Restoration Frau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pet Furniture And Drapery Cleaning Business Was Legitim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wed A Lot Of Money To A Lot Of People And The Company Was Heavy In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rowed To Expand - Eventually Could Not Get Bank Lo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ns Had High Interest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 - Restoration Frau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9297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ud - Choose To Show That The Company Was Making More Money That It Really Was And Always Needed To Borrow Mor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ed A Built In Excuse “Why Are You Always Short Of Money?  I Have Got These Restoration Job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ed To Fool The Accountants And Auditors Into Believing That ZZZZ Best Financials Were 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76652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ny In Red Since The Beg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Phony Financial To Borrow As Much Money As He Could From B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His Credit Ran Out The Only Thing That Would Save The Company Was To Take The Company Public In A Stock Off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1:36:04Z</dcterms:created>
  <dc:creator>Mann Frankfort Stein &amp; Lipp</dc:creator>
  <dc:description/>
  <dc:language>en-US</dc:language>
  <cp:lastModifiedBy>Paul Lechner</cp:lastModifiedBy>
  <cp:lastPrinted>2002-12-05T20:57:54Z</cp:lastPrinted>
  <dcterms:modified xsi:type="dcterms:W3CDTF">2018-11-17T11:16:25Z</dcterms:modified>
  <cp:revision>112</cp:revision>
  <dc:subject/>
  <dc:title>Fraud - Past, Present &amp; Future</dc:title>
</cp:coreProperties>
</file>